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057-23C6-410E-A023-5878E091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9C6-2E5B-41B3-BA89-65BC7BD9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E7F-A596-4B64-9002-5179E09C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42C-A36A-481C-8764-DC6F2E79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D89C-5BC0-463A-B027-B3B4CDFA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0028-7AF2-4FB7-BAA2-0CAA047D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A547-FF1A-4665-B656-87FD6938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37E8-B340-4C90-8268-D96AFB53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7A96-1F76-406D-B982-2146D713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21CB-B8C2-4A32-8AC0-3CB04DB4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BF71-BFD6-4F89-8C7A-654124D2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29B-FE72-4AED-90F5-5C2321C7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CB53-A3D8-4EFB-8ACC-D041342C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DC33-7E78-4CE9-B49F-228B9ED6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E418-2F36-4508-B47D-DA9C7E88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F6FA-E680-44DA-AC6A-AAF232EE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E2D2-84DA-4827-B88F-8EECCB6C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E43-9315-49F5-A26F-C3568C35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AC42-3061-469A-8BE0-A6C54843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6C1-8404-46EA-8874-BADDD008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AA4-C2F1-44F8-997B-97251B46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581-798B-4BB8-A4BE-7438764F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07E-09D0-437A-98BE-FDB24412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48C-0216-4EF2-B26A-8ADC01EF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1466-5815-4EF7-861D-F6BE0A7649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B56C-9645-4F94-A452-39CF735E12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EL DISCURSO ESCRI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critura aparece alrededor  del año 3500 a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scritura alfabétic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surge alrededor del 2000 a.C. entre Egipto y Mesopotam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fenicios la extienden ( siglo X a.C.) los hablantes de lengua semítica representan sólo sonidos consonantic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griegos, añaden las vocales (s.VII) a.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Rasgos  esenci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persona ya tiene una competencia linguística fundada en la actividad or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a de las primeras exigencias es la adquisición d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ódigo gráfico de la len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competencia escr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á sometida a un aprendizaje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istitucionalizad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que tiene lugar en un centro de instr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eje fundamental de la instrucción 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capacidad de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lee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(en el sentido de comprender, interpretar, contextualizar) textos elaborados y de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scribi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para dar cuenta de la adquisición de estos conocimi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Adquisición de la competencia escr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n el momento en que se aprende el código escrito, aparece un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simbolismo d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3200" spc="-1" strike="noStrike">
                <a:solidFill>
                  <a:srgbClr val="ff0066"/>
                </a:solidFill>
                <a:latin typeface="Arial"/>
              </a:rPr>
              <a:t>segundo orden,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ometido al código o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espués de la adquisición se convierte en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simbolismo direct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, y no necesita más la mediación de la lengua or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Niveles de competencia escrita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esde el más sencillo al más complejo distinguim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Nivel ejecutiv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(dominio del código escrit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Funcional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( capacidad de operar en la cotidianid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nstrumental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( permite el acceso a la informació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Epistémic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( ejercio de la creación y de la crític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Aspectos psicológicos de la escritura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ectura y escritura se hacen en silencio y generalmente en sole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l texto escrito contiene dos procesos: la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escritura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(producción) y la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lectura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           (interpretació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l proceso de la escritura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lower y Hayes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desarrolla por etapas (siguiendo el modelo aristotélic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y 3 procesos principal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proceso de planificación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que incluye la definición de los objetivos, la generación de ideas y su organización (etapa de preescritura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proceso de textual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que traduce los contenidos mentales 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ementos de la lengu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elecciones a nivel morfosintáctico, lexico-semántico y ortográfic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proceso de revisión,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qu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implica  operaciones de relectura que van  evaluando los resultados de la textual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(reelaboración del texto para llegar al resultado fi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El proceso de lec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lectur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: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ncuentro físico entre un texto y un Recept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ntes se consideraba un proceso pasivo, pero desde los avances de la pragmática y de la ciencia cognitiva se considera al </a:t>
            </a:r>
            <a:r>
              <a:rPr b="0" lang="es-ES" sz="3200" spc="-1" strike="noStrike" u="sng">
                <a:solidFill>
                  <a:srgbClr val="ff0066"/>
                </a:solidFill>
                <a:uFillTx/>
                <a:latin typeface="Arial"/>
              </a:rPr>
              <a:t>lecto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como 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protagonist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 la lectura,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sujeto activ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que establece, en diferida, una comunicación con el autor del tex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lector activa en su mente los conocimientos que tiene para seleccionar entre ellos los más adecuados para la interpretación del mensaje escri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la escritura el lenguaje verbal recoje todo el peso de la comunicació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scritura es capaz de cambiar el estilo cognitivo y los modelos de organización social de una comun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istancia que permite la lengua escrita acentúa el poder humano de abstracción y de reflección.(Godo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soporte de l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omunicación or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on los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habl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soporte de l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omunicación escrit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o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objetos real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que aparecen en contextos materia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os se pueden llamar </a:t>
            </a: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condiciones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paratextuales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y se pueden distinguir 4 aspect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condiciones paratextuales:</a:t>
            </a:r>
            <a:r>
              <a:rPr b="0" i="1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66"/>
                </a:solidFill>
                <a:uFillTx/>
                <a:latin typeface="Verdana"/>
              </a:rPr>
              <a:t>material de soporte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papel (de vario tipo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izarra, piedra, cartel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ordenadores permiten la aparición de 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critura en pantalla, y sustituyen la no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 texto con la de hipertexto, que perm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l lector crear su propio itinerario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ectura, o intervenir en é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66"/>
                </a:solidFill>
                <a:uFillTx/>
                <a:latin typeface="Verdana"/>
              </a:rPr>
              <a:t>Forma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: medida del papel, tamaño de la página, cantidad de pági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66"/>
                </a:solidFill>
                <a:uFillTx/>
                <a:latin typeface="Verdana"/>
              </a:rPr>
              <a:t>Tipografía y diseño gráfic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tamaño y grosor de las letras, disposición a toda página o en columna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66"/>
                </a:solidFill>
                <a:uFillTx/>
                <a:latin typeface="Verdana"/>
              </a:rPr>
              <a:t>Combinación con otros códigos semiótic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dibujos, fotos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El nivel morfosintác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scritura académic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e caracteriza por sus requisitos de imparcialidad, neutralidad y dista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s construcciones sintácticas son generalmente de forma canónica y neu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obras literaria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por pertenecer al ámbito de la creación, suelen tener un repertorio rico y variado de registros, palabras y fraseologí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uestran una libertad considerable, a diferencia de la obras académicas  que deben responder a exigencias de claridad, precisión y o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algunos textos literarios o guiones cinemátográficos, se crean diálogos que de acuerdo con el papel de los protagonistas, pueden presentar rasgos coloqu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n embargo, se trata de una coloquialidad construida para crear verosimilitu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publicidad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usa textos escritos con estilo coloquial, por sus efectos persuasiv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lenguaje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administrativo y jurídic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usa textos escritos en que la creación está ausente y se repiten fórmulas convencion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organización textual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párrafo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la unidad básica de un texto y es constituido por u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onjunto de enunciados relacionados entre sí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por el conteni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conjunto de párrafos se organiza e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partados, capítulos y par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puntu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istinguimos ent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66"/>
                </a:solidFill>
                <a:latin typeface="Verdana"/>
              </a:rPr>
              <a:t>puntuación mínim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propia de los escritores inexpertos, en que sólo aparecen puntos y coma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66"/>
                </a:solidFill>
                <a:latin typeface="Verdana"/>
              </a:rPr>
              <a:t>puntuación clásic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ropia de los escritores  expertos, con un uso variado de todos los signos de puntuació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66"/>
                </a:solidFill>
                <a:latin typeface="Verdana"/>
              </a:rPr>
              <a:t>puntuación enfátic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aracterísca de la publicidad, en la que abundan los puntos y los períodos breves para obtener un efecto incisivo y cort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titulación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Títul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ubtítul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organizan el contenido del texto y aparecen en el índice para que el lector pueda conocer el contenido del libro de forma sinté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función primordial de la lengua escrita es la conservación de la memoria de los acontecimientos. (Stubbs y Kr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la vida social deben mantenerse por escrito todos los actos que adquieren un valor público y oficial (nacer, morir, casarse.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ffff"/>
                </a:solidFill>
                <a:uFillTx/>
                <a:latin typeface="Arial"/>
              </a:rPr>
              <a:t>El texto escrit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 puede analizar y consulta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ermanece invariabl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s testimonio de la vida de un individuo y de la comun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 extiende a destinatarios diversos y lejan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el mundo hay un 40% de la población adulta que no conoce la escritura, y un 25% que está  debajo de los niveles de alfabetización func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y prioridad del mundo oral sobre el escri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(fuente UNESC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modalidad escrita es vehículo de :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xpresión política, social, jurídica, administra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xpresión cul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municación periodís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gún los linguistas es un sistema secundario, no superior  sino diferente del sistema o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situación de enunci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caracteriza por los siguientes rasg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ctuación independiente y autónoma de las personas que se comunican a través de un texto. Emisores y recptores se llama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scritores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lectores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comunicación tiene lugar “en absentia”: el momento de la escritura y el de la lectura no coinci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 tratarse de una interacción diferida, el texto debe contener las instrucciones necesarias para ser interpret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carácter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monolog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adquiere una organización precisa y estructurada. Puede haber también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diálog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or ejemplo en los guiones cinematográficos, en las novelas, en las entrevistas periodísticas) pero suelen ser más construidos y pulidos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a adquisición de la competencia escr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sigue el mismo proceso que la lengua or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ondiciones normales de socialización sólo en la segunda infancia (5-6 años) se empieza el aprendizaje sistemático de la lengua escrit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01T10:25:4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